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98842"/>
        <c:axId val="42961198"/>
      </c:barChart>
      <c:catAx>
        <c:axId val="71198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1198"/>
        <c:crosses val="autoZero"/>
        <c:auto val="1"/>
        <c:lblAlgn val="ctr"/>
        <c:lblOffset val="100"/>
        <c:noMultiLvlLbl val="0"/>
      </c:catAx>
      <c:valAx>
        <c:axId val="42961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98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915-B1ED-4E76-A0D8-FFC4FC72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550-E00E-4C04-9E10-C642753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8CB-8C45-4C0F-B18A-ACC0D571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CD7-347A-4923-B0D8-408570E3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086-5B52-4328-94D6-AADCE40E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0E7-82DF-45FD-BE2C-57859B6E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FF9-A44C-41CC-B132-224A0659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D57-B2EE-4067-A06E-4B67DD7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3E3-994A-42D3-8D6B-A1379E9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F5E-BBD7-4817-B432-E5030C2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083-620F-4DA5-AD27-FAF4156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FA6-A264-4B96-8D35-7AEAE32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5CAD6-AC4F-4AB4-9590-599C4640BD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