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58666"/>
        <c:axId val="93037191"/>
      </c:barChart>
      <c:catAx>
        <c:axId val="80958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37191"/>
        <c:crosses val="autoZero"/>
        <c:auto val="1"/>
        <c:lblAlgn val="ctr"/>
        <c:lblOffset val="100"/>
        <c:noMultiLvlLbl val="0"/>
      </c:catAx>
      <c:valAx>
        <c:axId val="93037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58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986-E3CC-41A3-A2E6-29D89696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ABB-4136-412C-8822-8AC08FDA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56C-D5E9-44A4-97BF-ACFD3B1C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F57-DAED-42EA-9EA1-C909F5EE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978-2F4E-4E87-B5AF-0DEF2F4F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47D-E2D5-41D3-8C58-6DD2C61E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9EE-1D3B-4A66-86C4-A20F4DA1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A05-0013-4651-A66C-D69A477E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857-83BD-4FD2-A8AF-3F4424E3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4A4-E98F-4D04-98D6-7DDA9E5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8C5-9C30-4711-9467-5836905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F9F-2525-4DA1-90E0-2188F021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0231-5A9A-4444-B20E-A15EDB6C27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