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96213"/>
        <c:axId val="67218097"/>
      </c:barChart>
      <c:catAx>
        <c:axId val="12196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18097"/>
        <c:crosses val="autoZero"/>
        <c:auto val="1"/>
        <c:lblAlgn val="ctr"/>
        <c:lblOffset val="100"/>
        <c:noMultiLvlLbl val="0"/>
      </c:catAx>
      <c:valAx>
        <c:axId val="67218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6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16E-8D86-4950-B430-2B6AC1CD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BF3-B9E4-4D6E-B09A-1DF8B30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C37-0F29-4595-9393-A959CCFB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68A-C615-4858-AB3F-1BDB1242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4B9-F887-44E5-91EE-DD56768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235-DF4A-40A2-A61B-30472EE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5E3-8ADA-43DC-8557-C02D7C71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574-DA82-4659-86F2-F88E996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DC8-838D-4A70-8337-58ECB52C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456-D6B7-4B85-8A2B-904DD171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F83-4953-48B8-9B35-C7A7239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4C7-9EA2-4CA8-B80A-EB8B7A0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FD33-CC36-45ED-A5D2-630A74920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