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16398"/>
        <c:axId val="53483233"/>
      </c:barChart>
      <c:catAx>
        <c:axId val="66016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83233"/>
        <c:crosses val="autoZero"/>
        <c:auto val="1"/>
        <c:lblAlgn val="ctr"/>
        <c:lblOffset val="100"/>
        <c:noMultiLvlLbl val="0"/>
      </c:catAx>
      <c:valAx>
        <c:axId val="53483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6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05C-2F68-4F57-B95E-BC8BC6B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697-B2CE-46C6-A288-238849B2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2BB-661E-461B-BF9B-FCBEE373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A47-2C85-4C9E-9517-D034C3E1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D73-4749-4AC4-B298-DEE22E9C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AF1-8880-49E7-9A56-DDDA8A56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3C1-95DA-44DE-A854-3E06AB7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243-6E7E-4EC7-973C-C910B0A3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7D4-D6FB-47AA-ACCD-5C5887C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63B-2EBB-4BEB-BE7A-C1EBC48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6A6-E4BB-4CF2-9C13-85092FB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684-E0BF-4AD1-9C94-9E3521A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70163-112F-41E2-BFA2-2155D0166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