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961105"/>
        <c:axId val="89404194"/>
      </c:barChart>
      <c:catAx>
        <c:axId val="139611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04194"/>
        <c:crosses val="autoZero"/>
        <c:auto val="1"/>
        <c:lblAlgn val="ctr"/>
        <c:lblOffset val="100"/>
        <c:noMultiLvlLbl val="0"/>
      </c:catAx>
      <c:valAx>
        <c:axId val="894041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611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E213-D53D-4BAD-AA59-57C87F781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6A3F-F73F-48DA-BF1F-34C6AC93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8AFA1-3B99-4FB6-9DB4-A42D7F98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3A23-B79C-4D6F-976F-CD7E94196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9968-8D30-404A-8525-F8382477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6DA6-6DB3-4854-9B05-69CE2A85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584E-58E5-4CC8-98FE-CD4255B51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3ED1-A9D1-44D2-AE60-64881207A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5EBB-519E-419B-A1FE-B90989CEA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FCEB-97C5-409D-B7F7-136C9E499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D4D6-A0B3-4BB4-ACCA-C1E6B6C6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D0D39-9D46-4203-9DE0-FA4FA42A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BC6091-00D0-45BF-A1E5-4359011771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