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02133"/>
        <c:axId val="60322088"/>
      </c:barChart>
      <c:catAx>
        <c:axId val="68702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22088"/>
        <c:crosses val="autoZero"/>
        <c:auto val="1"/>
        <c:lblAlgn val="ctr"/>
        <c:lblOffset val="100"/>
        <c:noMultiLvlLbl val="0"/>
      </c:catAx>
      <c:valAx>
        <c:axId val="60322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02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B69-D73E-4454-848C-6457BC40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861F-142A-4A23-A56E-6C209601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7DD-21DD-4BF2-B2B5-2404A03C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9C7-5583-4674-9722-3E3E9BAA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C4B3-03A4-4976-9088-91A6DF0E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967-A1C5-42D5-9269-0A14AC6D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A29-BBE9-4834-9628-EA31AAED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7C9E-45BB-4D8F-A4F3-32BE75B1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425-A354-413C-9A3A-3BC11F0D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ADB-19DE-409F-B0E3-430BECD8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444-34F5-4CD4-A9A4-97903C1C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C07-24A1-4D38-86D1-C654910C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C1BB9-42B4-47E3-94E2-CE465FEF4E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