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751829"/>
        <c:axId val="82958378"/>
      </c:barChart>
      <c:catAx>
        <c:axId val="397518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58378"/>
        <c:crosses val="autoZero"/>
        <c:auto val="1"/>
        <c:lblAlgn val="ctr"/>
        <c:lblOffset val="100"/>
        <c:noMultiLvlLbl val="0"/>
      </c:catAx>
      <c:valAx>
        <c:axId val="829583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7518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1E6A-8EC9-45C6-87D4-DC1E0F38F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D04B-C0EF-42B3-B241-CF46B1E5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3946-D407-4CF3-B706-DA92C2ED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765A-83F4-4280-BC0E-E94F85B08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7A07-DFD6-431B-B130-F8E4E965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1D56-2F69-404E-90C7-0ADB8174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D2B7-91D5-4FFB-8DD9-E7EBAF97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9BF3-A11C-4045-A9E6-84AE5947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3770-1DE7-46A8-BA4B-FE7C7788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D04A-3B84-4873-A0E0-636EA71B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8AF9-2AB2-4449-884C-249323DA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3CD8-CC73-4ABB-8B47-818FE316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26827-9CE4-4AD5-BFD3-AEBB8A8BB8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