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532663"/>
        <c:axId val="16983027"/>
      </c:barChart>
      <c:catAx>
        <c:axId val="235326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83027"/>
        <c:crosses val="autoZero"/>
        <c:auto val="1"/>
        <c:lblAlgn val="ctr"/>
        <c:lblOffset val="100"/>
        <c:noMultiLvlLbl val="0"/>
      </c:catAx>
      <c:valAx>
        <c:axId val="16983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326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7B8-2EED-4BC8-A9C7-22CAE698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CEB-5566-439B-8EB0-9B7F1A7E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D62-5095-403E-A074-D0CEE685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7859-FEC8-4B03-9C5E-A21E098A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2CB-E5E3-43ED-B4C5-4D7D7890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817-7DBD-4022-ADAB-661D9880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FE7E-1EF6-4B30-B6D2-E12B2E54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8D6-A07F-439A-8592-1EDF8102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7F1-4BCD-40BC-BE87-E3CCD25D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417-083B-4103-87F6-33B196E9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03E-73B8-4B3F-A252-8D5EB9B3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0C7-CFA8-4B5E-9750-2CD243F3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F8F10-50F8-4A46-80B6-14717B9867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