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31233"/>
        <c:axId val="52278509"/>
      </c:barChart>
      <c:catAx>
        <c:axId val="24331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78509"/>
        <c:crosses val="autoZero"/>
        <c:auto val="1"/>
        <c:lblAlgn val="ctr"/>
        <c:lblOffset val="100"/>
        <c:noMultiLvlLbl val="0"/>
      </c:catAx>
      <c:valAx>
        <c:axId val="52278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31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297-C0C9-46C7-B59A-F59279CB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4B1-E6A3-487C-8E5B-1B8E6DC4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43B-FCB6-4184-993B-0B3616D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ACA-7BD3-4B40-B7B6-AC0E038D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20E-FCE6-46F1-9FCA-13A9D2B0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5B1-841C-446B-8652-DC832E0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0A1-6171-4D4A-BF3E-0B292798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1C8-E038-4828-B21B-79FE188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F28-42C2-456D-A1D6-398A82A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500-8928-4FD0-AD5B-FC554B9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6EA-0023-48BC-A167-AA4876C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556-741C-4067-B2FC-3E610C6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A258-9167-4138-87A3-15399F170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