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20692"/>
        <c:axId val="79584686"/>
      </c:barChart>
      <c:catAx>
        <c:axId val="58220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84686"/>
        <c:crosses val="autoZero"/>
        <c:auto val="1"/>
        <c:lblAlgn val="ctr"/>
        <c:lblOffset val="100"/>
        <c:noMultiLvlLbl val="0"/>
      </c:catAx>
      <c:valAx>
        <c:axId val="795846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20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0BC-9013-4411-9B21-A8BA265E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459-D393-4FF0-8D95-2535E453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62A-18BC-4489-91AE-BFC5AA32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76B-D3CD-4896-86DE-5890136D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82D-3A8B-4CB8-8F9B-ED31CEFD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E0F-F5E1-43AF-A092-883D5D04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DAA-3726-4959-89F2-FEF22BC8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945-881B-4679-BBA3-AE68D0EC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539-62CE-45C0-A97D-2BFD9BAD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C1F-37A7-4AD0-A91F-6BF9329F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584-82C7-43E5-B21A-0F4B1299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032-9226-46CE-9BCC-293F1BDD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A8220-822F-4F6C-B279-5B026B991A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