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180417"/>
        <c:axId val="63865764"/>
      </c:barChart>
      <c:catAx>
        <c:axId val="301804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65764"/>
        <c:crosses val="autoZero"/>
        <c:auto val="1"/>
        <c:lblAlgn val="ctr"/>
        <c:lblOffset val="100"/>
        <c:noMultiLvlLbl val="0"/>
      </c:catAx>
      <c:valAx>
        <c:axId val="638657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804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7EF4-B4BA-4C32-B726-C4015E48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5B97-B402-499B-A7E7-765661D1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4B9C-D8AF-42D1-B156-30E8DA9A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8712-C12B-43E9-8C7D-8F2D2B16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A6DA-00D8-4B9A-A5F5-F26E5A54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94A5-6722-4909-AF51-92FF8DA9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F94-BA48-4D55-B0F3-847213EC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D8D9-904A-4898-9565-FCDC325D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0820-6993-4D69-AF74-8522D3DF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2C2C-8FD6-4552-A1FE-585F17A0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9EB8-4605-431D-B6C6-B80F059A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C6A2-37BF-4473-807D-607B675A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A8E9D-42B8-4180-AEFB-E07741D71E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