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56768"/>
        <c:axId val="76532464"/>
      </c:barChart>
      <c:catAx>
        <c:axId val="52056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32464"/>
        <c:crosses val="autoZero"/>
        <c:auto val="1"/>
        <c:lblAlgn val="ctr"/>
        <c:lblOffset val="100"/>
        <c:noMultiLvlLbl val="0"/>
      </c:catAx>
      <c:valAx>
        <c:axId val="76532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56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8FE-C045-4F5A-922E-64C5F0F2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0A4-6241-40D4-9A62-706ABF1E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2BD-249F-49DE-B8D1-5306677D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087-5FB8-4F48-A56C-F3737DB7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15F-1E37-4FE3-AED8-C3794CC5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545-BFD0-4BD7-BC44-2A93CCD0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422-931B-4AF7-8A4C-B36591D3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4FB-FC03-4156-9BE4-1BCE1482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B18-B346-4607-9DDD-1DBDCC67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424-2DC7-4518-8440-C2CB9ABF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A85-E59C-480D-ADCB-777A4FFB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5DA-1AA4-43CF-8707-AB6EC197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0064A-DC3E-4E09-A363-712A110B1B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