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240919"/>
        <c:axId val="49570615"/>
      </c:barChart>
      <c:catAx>
        <c:axId val="652409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70615"/>
        <c:crosses val="autoZero"/>
        <c:auto val="1"/>
        <c:lblAlgn val="ctr"/>
        <c:lblOffset val="100"/>
        <c:noMultiLvlLbl val="0"/>
      </c:catAx>
      <c:valAx>
        <c:axId val="495706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409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8FFF-DD53-472F-A121-2A3ADB5DE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6D5C-12B7-465F-AD14-16BBA459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1EE6-30E6-4E47-ABAE-31DCA17D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6BCC-D194-44C6-A1F5-19E2DD2CD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6EB2-A1D4-496B-B2FC-D2676272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5C4-C341-4A63-B30D-CD7C7507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18DE-7B06-45B8-8E10-B789B2A5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F196-013B-4D2F-ACEB-D63E017B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D1A9-2CD2-4174-BF29-5082699F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8157-C146-42B3-8CC2-52CC6DD3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EAC6-A521-4429-A6F9-67DB441E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2D68-5FB2-4A04-843E-E2CE953A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A97CC-0238-41FE-BACB-0D57787699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