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65420"/>
        <c:axId val="77941787"/>
      </c:barChart>
      <c:catAx>
        <c:axId val="91165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41787"/>
        <c:crosses val="autoZero"/>
        <c:auto val="1"/>
        <c:lblAlgn val="ctr"/>
        <c:lblOffset val="100"/>
        <c:noMultiLvlLbl val="0"/>
      </c:catAx>
      <c:valAx>
        <c:axId val="77941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65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D0B-F622-42DD-A8B7-AB6483F9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818-6B4F-4EBA-89C7-FCB551EF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5B9-0DCA-435A-816C-CFDEF297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5E9-90BB-439E-99C8-C79E6D5D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8A6-2EA1-42C4-95E7-A8CE63FA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6AD-760C-43E4-9BF5-31A0B551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B33-C6F4-4FB6-847B-D151E688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B45-CA22-4F7F-8846-FC989B4B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BD8-88E2-42B5-97C1-EBA33E29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6D6-7C65-4369-94FC-9E58372A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D98-58C3-461A-8250-382B1B6C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F04-2DAE-4B8E-8D32-AAF211AE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644A6-E80A-4985-B248-6462720B28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