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89579"/>
        <c:axId val="20056113"/>
      </c:barChart>
      <c:catAx>
        <c:axId val="97889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56113"/>
        <c:crosses val="autoZero"/>
        <c:auto val="1"/>
        <c:lblAlgn val="ctr"/>
        <c:lblOffset val="100"/>
        <c:noMultiLvlLbl val="0"/>
      </c:catAx>
      <c:valAx>
        <c:axId val="20056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89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0EF-CCA3-4EE3-954F-BEE2E5E2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55F-3307-46CB-AC71-1554C898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844-D1AD-42F8-AE1B-2EF39416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95A-BAEC-4B6C-94DB-1755C446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DD2-6B62-4F95-B82F-1190BA1E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2A8-90E8-4A05-B2E5-E314BA7F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D80-6B5F-48B7-A5DE-EBEF7320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196-6FB0-4252-A0CA-358ACE9B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544-96A3-418D-A77D-C3B07A5F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592-E152-45C1-B47A-B64E69FE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7D4-45F4-4CB2-9154-C5216E5D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F1C-0BAF-4E41-AC47-1D29F67E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2159E-F571-4D00-83FB-63EBC4FE58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