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13139"/>
        <c:axId val="1939459"/>
      </c:barChart>
      <c:catAx>
        <c:axId val="24513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459"/>
        <c:crosses val="autoZero"/>
        <c:auto val="1"/>
        <c:lblAlgn val="ctr"/>
        <c:lblOffset val="100"/>
        <c:noMultiLvlLbl val="0"/>
      </c:catAx>
      <c:valAx>
        <c:axId val="1939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3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47F-92A0-4E9B-83CF-4266AE4A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4FB-C2CE-4711-946A-39327A0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9A9-DB71-4B70-B0A5-F732F20E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C26-9666-45BF-95D2-BA67760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37D-3C79-4BFB-A24D-FB4F329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464-DD99-445C-9130-88C45BA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946-B0FE-4B3C-B94D-674FD1E1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4A4-EEC2-4401-A09D-E20900D6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601-0514-4C75-A0CB-CA30915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629-D2C3-42D2-84A0-F92D21F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30F-8EA0-48F1-9EA2-DE6696C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8EB-167F-4AAB-8DB2-4D1908C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8EC79-9867-489A-9DA5-7FEA6A638B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