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02220"/>
        <c:axId val="47891499"/>
      </c:barChart>
      <c:catAx>
        <c:axId val="42002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91499"/>
        <c:crosses val="autoZero"/>
        <c:auto val="1"/>
        <c:lblAlgn val="ctr"/>
        <c:lblOffset val="100"/>
        <c:noMultiLvlLbl val="0"/>
      </c:catAx>
      <c:valAx>
        <c:axId val="47891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02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EB0-76AE-4212-AA1D-C3E09E0F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619-32EE-4418-9271-6C99CD34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AB0D-7736-48FE-AA63-1BA82AD4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6983-B27B-4AB0-99E3-422F9A75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72C-CD1F-452B-B8CE-31FC156C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3AE-9053-41C8-B469-37039F83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EFA7-9C5D-4007-AB6C-B4EA18F0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0BEF-2BC7-4F82-B383-A3A9A82D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E0D-CC1B-4B59-B0C2-C73ED0A9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969E-90BD-4B5C-9D2F-D48A7893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1EE-83D2-40E3-AD10-43D34464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86C-ADCB-4E4B-B712-FA584DE0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ECE00-67A7-4A2F-9367-9F1DC39516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