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94742"/>
        <c:axId val="39729534"/>
      </c:barChart>
      <c:catAx>
        <c:axId val="72694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29534"/>
        <c:crosses val="autoZero"/>
        <c:auto val="1"/>
        <c:lblAlgn val="ctr"/>
        <c:lblOffset val="100"/>
        <c:noMultiLvlLbl val="0"/>
      </c:catAx>
      <c:valAx>
        <c:axId val="39729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4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538-AC5D-411D-B8E0-FFFAAB75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3B2-D06E-4EF4-9BDF-B103AA18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00A-3A19-4EB0-B695-960E3229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494-7B90-43EF-8D6A-0C7BC634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628-128D-4DDF-9081-B8AF7B8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E17-36E3-465C-8A78-84AB2FF9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331-4690-4D6A-BA4C-23D4AB15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7A2-570D-47C5-A1C4-E3E4A788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14C-EB00-43A3-85DE-A8ED2E0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AF4-11E7-4708-A719-ED4A0BB8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F5C-BA58-4CD6-883C-659C243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042-0A01-47A9-8BB1-392B793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6CB61-7598-443D-BD6F-E9D4121C9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