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95597"/>
        <c:axId val="52469486"/>
      </c:barChart>
      <c:catAx>
        <c:axId val="24095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9486"/>
        <c:crosses val="autoZero"/>
        <c:auto val="1"/>
        <c:lblAlgn val="ctr"/>
        <c:lblOffset val="100"/>
        <c:noMultiLvlLbl val="0"/>
      </c:catAx>
      <c:valAx>
        <c:axId val="52469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5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535-E831-47BE-8502-0E50CFDD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18C-95B5-4246-91C8-344A24C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F3B-F503-4649-82F2-438ED83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05F-03BE-4137-80C2-DD40833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3C0-DE3D-4CC2-AECA-1E86DE5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2A0-D496-4023-92FC-28B8535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233-2378-4128-A33D-F1A717A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248-BB3C-4C72-AC06-C16D933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02F-E4F2-40D2-958A-F931296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EC1-E774-4380-B29B-9A607CE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8EF-3084-4BB5-AD06-4715AE0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BAF-2E50-4E38-A010-21D5970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79503-C9E0-4029-8416-CB84F2CC12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