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41547"/>
        <c:axId val="97358178"/>
      </c:barChart>
      <c:catAx>
        <c:axId val="81341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58178"/>
        <c:crosses val="autoZero"/>
        <c:auto val="1"/>
        <c:lblAlgn val="ctr"/>
        <c:lblOffset val="100"/>
        <c:noMultiLvlLbl val="0"/>
      </c:catAx>
      <c:valAx>
        <c:axId val="97358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41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965-F1E4-4DC9-8CC5-5E2AEEDF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E24-DF44-42FD-8F05-CF19B1D1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50C-A705-475A-A628-EA572311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176-B586-4AC1-8446-A9087570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808-62F8-43D4-BBD3-8E790A93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527-994F-4B2F-B23A-91B56D5E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19D-FFE3-4730-B034-D3D09EB3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8AC-C115-4195-8D39-7BCA9E03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C16-5C83-4592-8D6C-873E2CD8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0B3-E066-4F15-9713-AC9FB3A8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10E-DCC7-4E70-9CAE-1595F5CB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C84-D332-47DF-B4AF-34A31654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EADA8-19CC-403C-AC2C-9F63C3D08E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