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33841"/>
        <c:axId val="52174794"/>
      </c:barChart>
      <c:catAx>
        <c:axId val="36333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4794"/>
        <c:crosses val="autoZero"/>
        <c:auto val="1"/>
        <c:lblAlgn val="ctr"/>
        <c:lblOffset val="100"/>
        <c:noMultiLvlLbl val="0"/>
      </c:catAx>
      <c:valAx>
        <c:axId val="52174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33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273-7DD9-4DEE-BA43-CABB07A7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39A-0BCE-454D-B584-55A58D6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C34-9570-4DC5-907A-CDC7A615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ECC-E27E-4CBF-84A2-7F529CB6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14A-DE4C-491F-9F57-D2573E6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0A2-B1A8-403D-BBDE-3478F22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2F5-93BD-4D9C-A161-C22E6F89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09B-EBD2-47E4-B825-4CB289FC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F3E-30E4-4F23-883F-F1112A55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54A-1353-4BA0-96B8-2B32BCC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A2F-FF20-48CF-B3B3-3634640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AC3-F785-4DD5-9E53-E474AEB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B42C-A270-42D4-AFA2-02D20B126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