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22828"/>
        <c:axId val="93683614"/>
      </c:barChart>
      <c:catAx>
        <c:axId val="78222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83614"/>
        <c:crosses val="autoZero"/>
        <c:auto val="1"/>
        <c:lblAlgn val="ctr"/>
        <c:lblOffset val="100"/>
        <c:noMultiLvlLbl val="0"/>
      </c:catAx>
      <c:valAx>
        <c:axId val="93683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22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AA4-4090-48D8-AA31-8F138925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932-723A-4147-AFFD-DC9F3FB9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F92-9EF4-46D3-8EFA-C559481B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4E5-B7FC-4920-9930-B65198D3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D85-8E46-4FE1-81B0-087F7020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4C6-781B-4048-A82E-3A89CA3E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7AB-A375-4F3F-A483-43B632F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41B-82F4-4949-93B8-B5AF048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DE5-E368-450F-9B2F-C48DA269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120-7930-46DF-A700-6B8F2F6B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900-1F1D-4351-B824-445C7B3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7B4-4840-4426-B3A4-D65A14FD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89F33-6429-4808-911E-4CFA91913F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