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25661"/>
        <c:axId val="29286414"/>
      </c:barChart>
      <c:catAx>
        <c:axId val="836256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86414"/>
        <c:crosses val="autoZero"/>
        <c:auto val="1"/>
        <c:lblAlgn val="ctr"/>
        <c:lblOffset val="100"/>
        <c:noMultiLvlLbl val="0"/>
      </c:catAx>
      <c:valAx>
        <c:axId val="29286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256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0E2-573C-404F-A427-3A510BD9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1311-7BCC-4C67-A5A2-FF484420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56C-C9AC-484B-A891-B32EB249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D52-E9AC-4239-A38A-202DC76F9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448-9D5F-4A74-B4CA-5A4DA06F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E61-6640-4A3D-BF53-591D60C6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D38-1BD5-48CE-8786-6A1BA526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00E-67BB-44DE-887A-A97FF2E5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812C-52FF-45C4-80F5-2A5AA303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4FE-784F-464F-94C2-8918FE42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9FF-859D-4B9D-825A-494AEAFA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3B3-B82F-4CFC-A0BA-02475726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FF042-8CCA-4C81-B297-9C3559FBDB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