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80248"/>
        <c:axId val="60334066"/>
      </c:barChart>
      <c:catAx>
        <c:axId val="42480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34066"/>
        <c:crosses val="autoZero"/>
        <c:auto val="1"/>
        <c:lblAlgn val="ctr"/>
        <c:lblOffset val="100"/>
        <c:noMultiLvlLbl val="0"/>
      </c:catAx>
      <c:valAx>
        <c:axId val="60334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80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C95-32AE-4875-BA48-F66DA114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196-0F70-4866-87E1-CF65917F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29A-98A1-4C79-B9CB-B5B1ADA2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63A-64E3-45C7-9C79-1AF24DEF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451-E052-4381-A936-799F2BB1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43A-2115-46DD-81BD-41DCB2C2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2DB-6A0C-48BF-8A95-B243B7E8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5BD-068B-4160-BE3D-7FF97579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D27-0C45-44BD-8E1A-13AFAA00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0F8-9DE6-467C-94D7-674F59AD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8F5-0E73-4C4B-969C-2D82669F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92E-A234-4031-A95E-ECAA9935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E10AA-7CF6-46B3-AFF5-1412C72C3F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