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253848"/>
        <c:axId val="14836604"/>
      </c:barChart>
      <c:catAx>
        <c:axId val="352538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836604"/>
        <c:crosses val="autoZero"/>
        <c:auto val="1"/>
        <c:lblAlgn val="ctr"/>
        <c:lblOffset val="100"/>
        <c:noMultiLvlLbl val="0"/>
      </c:catAx>
      <c:valAx>
        <c:axId val="148366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2538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9E70-4F7E-4F6A-9EA2-F84BC00E6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69A2-8348-4E10-8A9D-4E2F9ABEA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580F-8912-4DBB-83DB-9BE9C51A8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7FD7-D5DA-4461-8F53-1C4E4B144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6DAB-2204-435A-AA49-0E6B1CEE7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0CA5-390C-451B-B85A-8641BB171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15C4-6C15-41B7-92DE-EFFE1F0FB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D176-619D-4FD6-8DE6-6D3D8C1DE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509C-8A19-4CAA-840A-D40EC8767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7334-6D94-4701-B478-5591BA74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7F40-23E6-4374-9949-DF1BB165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C3FD-E2BE-452E-B4DE-1BEBCC99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C2F129-A1CA-4117-9732-E479DC1C664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