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55422"/>
        <c:axId val="90211018"/>
      </c:barChart>
      <c:catAx>
        <c:axId val="16155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1018"/>
        <c:crosses val="autoZero"/>
        <c:auto val="1"/>
        <c:lblAlgn val="ctr"/>
        <c:lblOffset val="100"/>
        <c:noMultiLvlLbl val="0"/>
      </c:catAx>
      <c:valAx>
        <c:axId val="90211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5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8AA-351F-4AE8-B6E1-0D7B3D40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E23-405C-4EA8-B309-633CC1AF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F76-8D74-460E-8A50-40463CDD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8CF-0584-45B1-8477-D3EBB95B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7D8-BB27-45F8-8E84-CBCB8A5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EC6-AADA-4261-B026-7086068E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CE8-5AE4-4416-8EB4-607721C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E9F-5AB0-4A3D-A810-A5360FFF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476-E9F7-43E9-8B61-0922137C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93C-50F4-40DF-9061-D5AE59D0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34F-F061-42B1-B7ED-5EF99AB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35F-7AD8-4F57-9DBE-328DACEA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3D45-B12E-4D52-9676-FEAB39D40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