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423332"/>
        <c:axId val="76618544"/>
      </c:barChart>
      <c:catAx>
        <c:axId val="934233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618544"/>
        <c:crosses val="autoZero"/>
        <c:auto val="1"/>
        <c:lblAlgn val="ctr"/>
        <c:lblOffset val="100"/>
        <c:noMultiLvlLbl val="0"/>
      </c:catAx>
      <c:valAx>
        <c:axId val="766185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4233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9709-47C3-4005-A815-F735C0E52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2FFA-BB1B-4FDC-AE0C-F52235CB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4CE9-845F-404C-80ED-52423D2F7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E987-DF39-4C61-AAE3-9DDACA1B8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31E8-C4AF-453C-9688-AA142C4A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9CD0-1F2E-482F-A500-6DB339A2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2845-1F8C-4134-9F13-C4682CB1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86A1-0FF4-4649-993E-DEC4FE3A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AE2C-CCC0-4D08-85FF-A866911C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5C3E-168D-479F-B9B5-A706909F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A8B8-4DDC-45BB-8B1C-00E0C99B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DACA-B8F6-4433-BCE0-92073609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44A7F-DB83-4ABF-8C1F-20F4E30FBA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