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853133"/>
        <c:axId val="47429076"/>
      </c:barChart>
      <c:catAx>
        <c:axId val="13853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29076"/>
        <c:crosses val="autoZero"/>
        <c:auto val="1"/>
        <c:lblAlgn val="ctr"/>
        <c:lblOffset val="100"/>
        <c:noMultiLvlLbl val="0"/>
      </c:catAx>
      <c:valAx>
        <c:axId val="47429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53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666-4E69-4FB1-B2AB-A16834CA9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B777-9F18-45A1-BE81-D26ACF2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67A-3ADD-4111-9007-485A8E2A4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295E-0FEE-4C20-938F-3780E40CA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08D2-C21D-4E7A-BE09-B6A8D246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D755-C280-4758-951C-76F39027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6A63-0E45-462D-917B-F2E39FB0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15A-7319-418C-9AED-523F8FAE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907E-D4E7-438B-8C59-B1B47FFF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2B4-AAF0-4F42-AC21-B1095B11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5B6B-7CEE-476B-A4EE-BEFB6F48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4C85-E078-4364-BD43-24EE30F9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87438-C1E4-4384-8F09-F328518CDA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